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238-B432-4435-A31F-F5BD8B8D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CFE5-7B68-4498-8783-2A40102F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783C-2298-4FDB-AE61-D1FAD035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50FC-54E8-4D75-A03F-F6B72A54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E5E-F4FB-497E-BB67-CDD229D3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6DA-CB88-492A-8154-223FA845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5F7-C23E-4B86-A852-A06A19B9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2D6B-3FFB-4DF9-B468-7E7FD7CA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77A8-CA6E-4D7C-923C-73A16FB9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E44-EE2F-4004-96A0-14D2729E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359-FEE4-458E-A2C3-5EBDF897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632-337E-4571-BA0D-DFB81BB9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E42F-B1DA-42A5-9BE7-01F2E3F5C360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Coastal Erosion Featur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liffs And Wave-Cut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cgz.e2bn.net/e2bn/leas/c99/schools/cgz/accounts/staff/rchambers/GeoBytes/GCSE%20Revision/Unit%201/Coasts/Coastal%20Images/Cliff_Erosion.jpg"/>
          <p:cNvPicPr/>
          <p:nvPr/>
        </p:nvPicPr>
        <p:blipFill>
          <a:blip r:embed="rId1"/>
          <a:stretch/>
        </p:blipFill>
        <p:spPr>
          <a:xfrm>
            <a:off x="988920" y="1197000"/>
            <a:ext cx="727236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aves, Arches, Stacks, And Stum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inly seen on headlan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ves start by attacking the main points of weakness in the rock: the joints and faul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point of weakness is increased in size until it becomes 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a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waves continue to attack the cave, which finally results in an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rc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ing formed through the headla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arch is attacked both by coastal erosion and sub-aerial erosion and finally the roof of the arch falls into the se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leaves behind 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ack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hich is then slowly eroded down to become 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ump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aves, Arches, Stacks, And Stum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http://www.bbc.co.uk/scotland/learning/bitesize/higher/geography/images/02_costal_erosion.gif"/>
          <p:cNvPicPr/>
          <p:nvPr/>
        </p:nvPicPr>
        <p:blipFill>
          <a:blip r:embed="rId1"/>
          <a:stretch/>
        </p:blipFill>
        <p:spPr>
          <a:xfrm>
            <a:off x="237960" y="1413000"/>
            <a:ext cx="86122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astal Erosion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astal erosion processes create a number of significant landfor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re are a number of factors which affect the rate of this ero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)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ck 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A more resistant rock, such as granite, will be eroded slowly, whilst a less resistant rock, such as clay or mud, can be eroded very quick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)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ing / Faul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more faults and joints a rock has the more susceptible it is to erosion, both from coastal and sub-aerial proces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i)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astal Rock Arrang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A coastline with rocks that run parallel to the coast is called a concordant or "Pacific" coastline. One that has rocks running at right angles to the coast is called a discordant or "Atlantic" coastl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)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ock Angl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- The angle that the coastal rocks dip can also cause erosion to occur at different rates. Many rocks around the coasts of Britain are sedimentary, meaning they are layer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cks that dip towards the sea produce gently sloping cliffs that are often affected badly by mass movement process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cks that dip away from the sea produce an uneven, steep cliff face with many overhang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cks that are horizontally bedded produce a steep cliff with small overhang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ocks with vertical beds will produce vertical cliffs if the layer closest to the sea is resista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eadlands And B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on an Atlantic (discordant) coastline due to the softer rock being eroded quicker than the harder ro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aches form in the bays where the soft rock has been eroded a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lands of more resistant, hard rock are left behi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eadlands And B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cgz.e2bn.net/e2bn/leas/c99/schools/cgz/accounts/staff/rchambers/GeoBytes/GCSE%20Revision/Unit%201/Coasts/Coastal%20Images/Headlands_and_Bays.jpg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liffs And Wave-Cut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ffs are formed when destructive waves attack the bottom of the rock face between high and low water ma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rea under attack is eroded using the major processes of coastal ero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s of weakness, such as faults and joints are attacked most, and eventually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ve-cut no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gouged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liffs And Wave-Cut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ck above overhangs the notch, and as it is cut deeper into the rock, gravity causes the overhanging rock to collap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oose rocks are removed by the sea and transported along the coast by long shore drif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hole process of undercutting the cliff begins ag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liffs And Wave-Cut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 cliff is eroded backwards it leaves behind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ve-cut platform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t the level of the low water ma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latform is rarely eroded, as the waves energy is concentrated on eroding the area between the high and low water mark, and not the rock that is underneat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3:51:02Z</dcterms:created>
  <dc:creator>Dell_02</dc:creator>
  <dc:description/>
  <dc:language>en-US</dc:language>
  <cp:lastModifiedBy>Dell_02</cp:lastModifiedBy>
  <dcterms:modified xsi:type="dcterms:W3CDTF">2011-01-27T00:09:27Z</dcterms:modified>
  <cp:revision>2</cp:revision>
  <dc:subject/>
  <dc:title>Coastal Erosion Features</dc:title>
</cp:coreProperties>
</file>